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289D-C368-4BDF-A58D-44091A588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6CF2-4FB1-4C0E-A1D9-10AE36343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69BC-FD09-45A5-8993-526005EAA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2B9F-4F27-4873-AC09-4B8A00492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050F-C9C3-4359-9EEA-1EFD544A3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0A7D-EADA-4F09-B6A3-D110EB919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AE33-A711-4A60-A297-E0A60741E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7840-DEE8-4DA1-BFB5-861286089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1107-C85E-41F7-A547-D23A51D8F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3313-B64C-40C3-BB98-7FB8B9753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58FE-3D4E-4739-B218-A40D18739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3C56-EF01-4D0B-91B9-EBDB100EC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8F28-EAB3-4129-8806-E1D4CFBAF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DF99-CB7B-4DB0-B405-6FA18FB42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4D82-50BD-4D4E-883E-6D720AF4B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C93C-C694-4ABA-9A13-21ECD78B3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D616-42DD-40A3-B76F-C4F27E7E7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FF29-11F7-48E2-886D-F42E99BB5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EDCD-7D3F-4BD4-BF9F-3F238664B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4640" y="83664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br>
              <a:rPr sz="4000"/>
            </a:b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ГИЈА И ФАРМАЦЕУТСКИ ПРЕПАРА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282920" y="2643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211640" y="5157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52280"/>
            <a:ext cx="746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УТНОВСКИ СИСТ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 flipV="1">
            <a:off x="633240" y="206820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703440" y="4411800"/>
            <a:ext cx="237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 flipV="1">
            <a:off x="633240" y="2349360"/>
            <a:ext cx="2138400" cy="20764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338560" y="4460760"/>
            <a:ext cx="195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смиц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 rot="16200000">
            <a:off x="-628920" y="2778480"/>
            <a:ext cx="19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н смиц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 rot="18900000">
            <a:off x="1460880" y="2311560"/>
            <a:ext cx="16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г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684360" y="1052640"/>
                <a:ext cx="9856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τ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Line 11"/>
          <p:cNvSpPr/>
          <p:nvPr/>
        </p:nvSpPr>
        <p:spPr>
          <a:xfrm flipV="1">
            <a:off x="4367160" y="2144880"/>
            <a:ext cx="0" cy="23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4367160" y="4511520"/>
            <a:ext cx="237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6072120" y="453708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смиц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 rot="16200000">
            <a:off x="3106080" y="300744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5340240" y="27925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4427640" y="3240000"/>
            <a:ext cx="22572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9"/>
          <p:cNvSpPr/>
          <p:nvPr/>
        </p:nvSpPr>
        <p:spPr>
          <a:xfrm>
            <a:off x="4932360" y="5229360"/>
            <a:ext cx="396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АЖ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 њутновских течности зависи само од ТЕМПЕРАТУРЕ, а не од брзине смицањ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179280" y="5103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њутновских течности једначина у дијаграму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D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је праву линију, са почет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ком у координатном почетку, а вискозитет је тангенс угла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ова права заклапа с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 Њутновских теч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а уља (маслиново, сунцокретов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 раст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араф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2206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ми који се не понашају по Њутновом закону тј. код којих вискозитет није константан, називају с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е теч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 између брзине и напона смицања је обично приказа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ивом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правом која не полази из координатног почет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 који настаје као резултат унутрашњег отпора при дејству силе, сложенији је него код њутновских система. Као последица дејства силе и померања унутрашњих слојев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лази до појаве протицања у ширем смисл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и сист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тим, када се у реологији говори о протицању тада се под тим изразом не подразумева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 протицање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ећ и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јаве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што је деформација која настаје под дејством спољних сила, као и друге механичке особине датих система (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ластичност, пластичност, растегљивост, вискоеластичност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и систем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е суспензи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и, масти, кремов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макромолеку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ј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6836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 нењутновских течности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 константан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 је у функцији брзине смицања D, која се приказује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чким кривама - криве протицањ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D доводи до смањења вискозитет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ачина која описује протицање нењутновских течност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10"/>
              <p:cNvSpPr txBox="1"/>
              <p:nvPr/>
            </p:nvSpPr>
            <p:spPr>
              <a:xfrm>
                <a:off x="3132000" y="4076640"/>
                <a:ext cx="173700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а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τ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TextBox 5"/>
          <p:cNvSpPr/>
          <p:nvPr/>
        </p:nvSpPr>
        <p:spPr>
          <a:xfrm>
            <a:off x="539640" y="5732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привидни вискозитет (Pa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2915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и системи чије реолошке карактеристике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зависе од времена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брзина смицања је функција само примењеног напона смицања, а не и времен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и системи чије реолошке карактеристике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исе и од времен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еластични системи, код којих реолошке карактериситке такође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исе од времен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руктура самог система долази до изражаја, тако да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ни показују особине и чврстих тела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ластичност)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течности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искозитет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684360" y="98100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и Нењутновских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2205000"/>
            <a:ext cx="8424720" cy="61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а ових система је да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зина смицања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било којој тачки система који протиче, представља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у напона смицања и обрнуто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= f (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ili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f (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ене вредности вискозитета зависе од примењене брзине смицања или напона смицања што практично значи и од конструкције вискозиметра, па се вискозитет нењутновских система назива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дни вискозитет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група реолошких система даје три типа протицањ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чн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удопластич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атант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и системи чије особине не зависе од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45496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а пластичних система је постојањ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пуштањ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осног напона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течност почела да тече мора се савладати приносни напон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д ове критичне вредности пластично тело не протиче већ трпи само реверзибилне деформације као еластична чврста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осни напон је последица успостављања веза између суседних честица система, које се морају раскинути да би систем почео да те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 почиње да тече када је споља примењена сила већа од унутрашњих структурних сила присутних у препар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флокуловани системи (суспензије, емулзије) имају већу вредност напона попушт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чно протиц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чно понашање показују неке масти, кремови, гели, паст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дерматолошку примену би требало да показују пластично понашање. Притиском на тубу савлада се приносни напон и препарат почиње да тече из тубе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dan18"/>
          <p:cNvPicPr/>
          <p:nvPr/>
        </p:nvPicPr>
        <p:blipFill>
          <a:blip r:embed="rId1"/>
          <a:stretch/>
        </p:blipFill>
        <p:spPr>
          <a:xfrm>
            <a:off x="1258920" y="2997360"/>
            <a:ext cx="6626160" cy="283356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755640" y="5877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B. Кривe протицања код пластичног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7468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цање псеудопластичних система не зависи од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носног нап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м силе псеудопластични систем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мах почиње да теч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рива течења почиње из координантног почет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а ових система је да са повећањем брзине смицања долази до разређивања, јер им се вискозитет смању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удопластичне особине показуј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поли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ије деривата целул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раствор ксантан гуме у нижим концентрац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755640" y="1052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удопластично протиц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г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ка о протицању и деформацији материје под утицајем спољних сила и даје везу између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ле, деформације и врем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 потиче од ре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eo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ћи, протиц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o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ске основе реологије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ак Њут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смицања расте брже него напон смицања, градећи при томе криву течења конкавну према апсциси која представља брзину смицањ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dan19"/>
          <p:cNvPicPr/>
          <p:nvPr/>
        </p:nvPicPr>
        <p:blipFill>
          <a:blip r:embed="rId1"/>
          <a:stretch/>
        </p:blipFill>
        <p:spPr>
          <a:xfrm>
            <a:off x="1332000" y="2781360"/>
            <a:ext cx="6678360" cy="18716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755640" y="51577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ве протицања и вискозитета псеудопластичних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95280" y="1945800"/>
            <a:ext cx="8166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атантно протицање или смицај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гушњава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 система супротно псеудопластич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ше с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астом вискозитета са повећањем брзине смицањ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тко ј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атантне особине показуј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 са великим садржајем диспергованих чес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атантно протиц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dan25"/>
          <p:cNvPicPr/>
          <p:nvPr/>
        </p:nvPicPr>
        <p:blipFill>
          <a:blip r:embed="rId1"/>
          <a:stretch/>
        </p:blipFill>
        <p:spPr>
          <a:xfrm>
            <a:off x="971640" y="1628640"/>
            <a:ext cx="6572160" cy="28069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1042920" y="5229360"/>
            <a:ext cx="63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 зависности брзине смицања и напона смицања код дилатантног протицања - повећањем брзине смицања нагло расте напон смицања тј.вискозит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2421000"/>
            <a:ext cx="84265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код којих је вискозитет у </a:t>
            </a:r>
            <a:r>
              <a:rPr b="0" lang="sr-C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и брзине смицања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 и </a:t>
            </a:r>
            <a:r>
              <a:rPr b="1" lang="sr-C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емена</a:t>
            </a:r>
            <a:r>
              <a:rPr b="0" lang="sr-C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трајања спољашње силе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истему долази до разрушавања и успостављања унутрашње структуре што захтева извесно врем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у групу нењутновских течности убрајају се појав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ксотро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иксотро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пекс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и системи чије особине зависе од вре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13840" y="1915920"/>
            <a:ext cx="8750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з потиче од реч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xis – мешање и trepo – обнављање или промена (промена додир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чности и получвр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ла се одликују високим вискозитетом при ниским напонима смицања, али се вискозитет смањује при повећању напона смиц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тиксотропијом се подразумева да неки колоидни систем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 мировању прелазе у чврсто стањ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ирај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а пр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ханичком дејству поново постај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ксотропн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 - унутрашњи отпор зависи од интензитета примењене механичке силе, времена њеног трајања и износа претходних деформац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ксотро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7"/>
          <p:cNvSpPr/>
          <p:nvPr/>
        </p:nvSpPr>
        <p:spPr>
          <a:xfrm>
            <a:off x="2505960" y="6381720"/>
            <a:ext cx="49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 10. Криве протицања тиксотропних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Content Placeholder 5" descr="dan26"/>
          <p:cNvPicPr/>
          <p:nvPr/>
        </p:nvPicPr>
        <p:blipFill>
          <a:blip r:embed="rId1"/>
          <a:srcRect l="-3230" t="0" r="0" b="0"/>
          <a:stretch/>
        </p:blipFill>
        <p:spPr>
          <a:xfrm>
            <a:off x="324000" y="3357720"/>
            <a:ext cx="8229600" cy="30016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7"/>
          <p:cNvSpPr/>
          <p:nvPr/>
        </p:nvSpPr>
        <p:spPr>
          <a:xfrm>
            <a:off x="250920" y="981000"/>
            <a:ext cx="8893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ксотропне особине показуј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и гели полимер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и гели желатине, пектина, скроба, деривата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улоз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е течности, крв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 ако садрже средство за повећање вискозитет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560" y="1995480"/>
            <a:ext cx="859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иксотропиј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појава где при механичком дејству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ком времена долази до повећањ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пона смицања тј.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скозитет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ри мировању систем губи конзистенцију (појава супротна тиксотропији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антитиксотропне системе равнотежа је сол стање (размекшани, течан облик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пексиј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истеми код којих се узлазна крива која показује разређивање (омекшавање) и силазна крива која показује згушњавање преклапај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система који показују реопексију долази до успостављања тиксотропне структуре, односно до повећања вискозитета при лаганом механичком дејству. Гел форма је равнотежно стањ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иксотропија и реопекс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840" y="12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39640" y="5805360"/>
            <a:ext cx="83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 11. Криве протицања антитиксотропних система и система који показују реопекс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dan27"/>
          <p:cNvPicPr/>
          <p:nvPr/>
        </p:nvPicPr>
        <p:blipFill>
          <a:blip r:embed="rId1"/>
          <a:stretch/>
        </p:blipFill>
        <p:spPr>
          <a:xfrm>
            <a:off x="468360" y="1268280"/>
            <a:ext cx="82296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1915920"/>
            <a:ext cx="8300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еластичне супстанце су оне, које под дејством механичке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л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мају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актеристике и чврстих и течних систем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 колоидни системи, концентровани раствори линеарних макромолекула, желатин и скроб, нису ни идеално чврсти ни идеално течни, већ поседују у различитом обиму особине и чврстих и течних те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ква тела производе како еластичне тако и вискозне деформације, па се називају вискоеластичн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лику од тиксотропних, код високоеластичних система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долази до потпуног разрушавања унутрашње структуре и преласка у течн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ол) стање, тако да и поред промена које се дешавају под дејством спољних сила остају мање- више у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врстом стањ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еластич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ње вискозит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метром –  на одређеној температури и при одређеној брзини смицања (нпр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okfield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скозимета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ациони вискозиметар – за получврсте препарате који припадају нењутновским системима. Мерење се врши на константној температури (20±0,1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шки параметри који се могу одредити ротационим вискозиметром с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ни и максимални вискоз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н попушт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тицања (пластично, псеудопластично, дилатант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гија је област физике која се бави деформацијама и течењем матер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реолошке тачке гледишта, систем ј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вр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о поседуј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обли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луме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ча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о им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луме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асов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о не задржи н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л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луме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да је на њег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ње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к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стантна сила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но чврсто тело се деформише под дејством силе и враћа у првобитно стање по престанку деловања силе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 могу да се под притиском сабију и смање волумен, али се враћају у почетни волумен када притисак преста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гија течних фармацеутских пре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989000"/>
            <a:ext cx="8229600" cy="510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ње реолошких особина фарм. препарата је неопходно ради процене квалитета, стабилности, избора опреме и технолошких поступака израде као и примене (истицање из амбалаже и апликација) независно од конзистенциј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је и суспен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ко су њутновског типа, много чешће нењутновског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емулзије биле стабилне требало би да буду псеудопластичног типа (да лако теку при мућкању, изливању из боце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уловане суспензије показују пластично или псеудопластично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 од концентрациј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иљу стабилизације, често се додају помоћне материје које повећавају вискозитет спољашњој фази, пошто бубре у води (ксантан гу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C, CMC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ме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потреб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сеудопластич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дујуће средство, настаје суспензија са већим вискозитетом у мировању, који се може смањити мућкањем или сипање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 количина средства за повећање вискозитета (бентонит), доћи ће до појав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иксотро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стич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спендујуће средство омогућава да се добије суспензија која не седименти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6200" y="1916280"/>
            <a:ext cx="8301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препарати получврсте конзистенције имају јединствене реолошке особине, јер немају свој облик (заузимају облик амбалаже) и лако се деформишу под дејством спољашње силе: истичу из боце, истискују из тубе, омекшавају и распростиру при размазивању на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и кремов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мплексно реолошко понашање које може укључити иреверзибилно рушење структуре, тиксотропно, вискоеластично понаш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 су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сеудопластичн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сеудопластич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 при нижим концентрацијама гелирајућег средства, док при вишим концентрацијама понашање прелази у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стич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гија препарата получврсте конзист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ључ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8864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реолошких особина течних и получврстих препарата и типа протицања може се предвидети понашање и стабилност током производње, чувања и примене пре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 препарата у току производње предвиђа се реолошким мерењима при великим брзинама смицања (користе се мешалице са великом брзином мешањ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 препарата у стању мировања или током терапијске примене предвиђа се реолошким мерењима при малим брзинама смиц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разматрања ограничимо на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чне систем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под дејством спољних сила протичу, унутрашњи отпор који се противи узајамном померању суседних слојева и протицању течности, назива се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скозитет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течност посматрамо као низ веома танких слојева који се при протицању крећу један мимо другог, различитим брзинама, онда је унутрашњи отпор течности последица узајамног трења суседних слојева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скозите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дефинише као унутрашње трење између суседних слојева који протичу различитим брзин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материјала према типовима течења и деформ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000" y="2565360"/>
            <a:ext cx="3249720" cy="34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222268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утновски сист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4067280" y="2565360"/>
            <a:ext cx="4537080" cy="3446640"/>
          </a:xfrm>
          <a:prstGeom prst="rect">
            <a:avLst/>
          </a:prstGeom>
          <a:solidFill>
            <a:srgbClr val="bbe0e3"/>
          </a:solidFill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и сист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чије особине н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е од вр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чије особине зави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вр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еластични систе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утновски сист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915920"/>
            <a:ext cx="843588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 за које важи Њутнов закон протиц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површина течности на коју делује сил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рашњег отпора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вискозитета или вискоз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/dx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радијент брзине протиц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утнов закон вискозитета важи само за ламинарно (слојевито) протицање т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2967120" y="2637000"/>
                <a:ext cx="2343240" cy="10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6840" y="1197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учају када је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nl-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=1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1" lang="nl-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v/dx=1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лази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је коефицијент викозитета или вискозитет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днак сили унутрашњег отпора протицању коју пружа слој течности на јединици површине, када је градијант брзине протицања јединица (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=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ј вискозитет се назива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намички вискозитет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ице динамичког вискозитета су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g/m 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чки вискозитет – тангенцијална сила потребна да се слој течности помери паралелно у односу на раван клиза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708360" y="2421000"/>
            <a:ext cx="1871640" cy="863640"/>
          </a:xfrm>
          <a:prstGeom prst="rect">
            <a:avLst/>
          </a:prstGeom>
          <a:solidFill>
            <a:srgbClr val="9c9cdf"/>
          </a:solidFill>
          <a:ln w="255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Њутнова једначина модификује тако да је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/A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dv/dx=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бија се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F/A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н смицањ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нглески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hear stress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жава се у јединицама N/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Pa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зива се и одговара тангенцијалном напону који се јавља при дефорамцији тела сило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по јединици површи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/dx=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зи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ицањ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нглеск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ar rate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жава се у јединицама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34100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 неке течности је отпор протицању и одређен је било којим количником напона и брзине смица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D=con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Њутновских течности постоји директна пропорционалност између напона смицања и брзине смицања, односн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зависи од ових параметара и им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ну вредно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2-11-23T09:17:53Z</dcterms:modified>
  <cp:revision>218</cp:revision>
  <dc:subject/>
  <dc:title>Slide 1</dc:title>
</cp:coreProperties>
</file>